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430-B6FE-4A0F-8F6A-3DFEFD8D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10F-0331-4B33-90A9-A2FB332B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05B-C06F-4C9F-8440-62D378CE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9D0-0A05-4E9B-B4D5-6BBBEB9C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1A7-D75C-4605-8162-4C1D001C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98B-2219-4F47-A5BE-F99DC8DF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9EA-B9D6-481B-A751-D58DDEC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133-DCB2-48CB-B7F1-C27C6439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54D-B961-4D7C-B912-172F221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86A-36BB-4A8C-ACFF-79A1F05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7E3-23E9-49E9-8230-C29B919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677-8C3A-4628-99C1-A26A623F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11AD-A889-44C6-92C3-E33267D44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тищи в годы ВОВ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урок  в 3 классе)</a:t>
            </a:r>
            <a:br>
              <a:rPr sz="24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ила: учитель начальных клас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рцова Е.И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льбище Динам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User31\Desktop\jarm0PxHVYY.jpg"/>
          <p:cNvPicPr/>
          <p:nvPr/>
        </p:nvPicPr>
        <p:blipFill>
          <a:blip r:embed="rId1"/>
          <a:stretch/>
        </p:blipFill>
        <p:spPr>
          <a:xfrm>
            <a:off x="2571840" y="3500280"/>
            <a:ext cx="6348240" cy="321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User31\Downloads\scale_1200.jfif"/>
          <p:cNvPicPr/>
          <p:nvPr/>
        </p:nvPicPr>
        <p:blipFill>
          <a:blip r:embed="rId2"/>
          <a:stretch/>
        </p:blipFill>
        <p:spPr>
          <a:xfrm>
            <a:off x="0" y="1714680"/>
            <a:ext cx="38527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User31\Downloads\2e5e26e26444459a9e6d34d2d4f5cc8a.jpg"/>
          <p:cNvPicPr/>
          <p:nvPr/>
        </p:nvPicPr>
        <p:blipFill>
          <a:blip r:embed="rId1"/>
          <a:stretch/>
        </p:blipFill>
        <p:spPr>
          <a:xfrm>
            <a:off x="1071720" y="642960"/>
            <a:ext cx="7881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йпластм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User31\Downloads\h-14230.jpg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Болшевском кладбище есть братская могила работников завода, погибших при взрыв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31\Downloads\h-14285.jpg"/>
          <p:cNvPicPr/>
          <p:nvPr/>
        </p:nvPicPr>
        <p:blipFill>
          <a:blip r:embed="rId1"/>
          <a:stretch/>
        </p:blipFill>
        <p:spPr>
          <a:xfrm>
            <a:off x="1428840" y="1504800"/>
            <a:ext cx="61610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квере напротив завода оригинальный памятник работникам завода и жителям посёлка, погибшим в Великую Отечественну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31\Downloads\h-1419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ровагонма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User31\Downloads\samohodka-cu-76-u-prohodnoj-oao-metrovagonmash-711x400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31\Downloads\129436.jpg"/>
          <p:cNvPicPr/>
          <p:nvPr/>
        </p:nvPicPr>
        <p:blipFill>
          <a:blip r:embed="rId1"/>
          <a:stretch/>
        </p:blipFill>
        <p:spPr>
          <a:xfrm>
            <a:off x="214200" y="1428840"/>
            <a:ext cx="5197680" cy="521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31\Downloads\i.jfif"/>
          <p:cNvPicPr/>
          <p:nvPr/>
        </p:nvPicPr>
        <p:blipFill>
          <a:blip r:embed="rId2"/>
          <a:stretch/>
        </p:blipFill>
        <p:spPr>
          <a:xfrm>
            <a:off x="4500720" y="-357120"/>
            <a:ext cx="446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3357720"/>
            <a:ext cx="4071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 – 76 в Берл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31\Downloads\su-76-v-berline-542x400.jpg"/>
          <p:cNvPicPr/>
          <p:nvPr/>
        </p:nvPicPr>
        <p:blipFill>
          <a:blip r:embed="rId1"/>
          <a:stretch/>
        </p:blipFill>
        <p:spPr>
          <a:xfrm>
            <a:off x="214200" y="142920"/>
            <a:ext cx="413064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User31\Downloads\su76-v-boju-800x398.jpg"/>
          <p:cNvPicPr/>
          <p:nvPr/>
        </p:nvPicPr>
        <p:blipFill>
          <a:blip r:embed="rId2"/>
          <a:stretch/>
        </p:blipFill>
        <p:spPr>
          <a:xfrm>
            <a:off x="3754440" y="3214800"/>
            <a:ext cx="53895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18T07:59:24Z</dcterms:created>
  <dc:creator>User31</dc:creator>
  <dc:description/>
  <dc:language>en-US</dc:language>
  <cp:lastModifiedBy>User31</cp:lastModifiedBy>
  <dcterms:modified xsi:type="dcterms:W3CDTF">2024-07-19T09:34:21Z</dcterms:modified>
  <cp:revision>18</cp:revision>
  <dc:subject/>
  <dc:title>Слайд 1</dc:title>
</cp:coreProperties>
</file>